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716040" y="746280"/>
            <a:ext cx="538488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389F-CAC0-4B9F-919E-EE75D7C283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E45-F166-4224-9221-3175EB5F88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8668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E20-4573-4902-81EE-B76764B1E2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8668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6676-8558-4B45-B3E0-7FA816927F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8668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2DE-EF0E-48BC-AD35-EE055E8040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8668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3F21-317D-4420-8122-0623223ED5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8668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357-22BE-4DB3-BB6B-A2F5AF99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475-6603-4520-BB34-9154640B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F6A-AAA8-4249-8386-3665CDC1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E9D-1F10-4166-9013-2CB20D48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1B4-5F55-4E18-8293-A018AD82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E092-69BD-4FC4-9DEC-5589C4A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FED-6896-4DF8-9E66-2855F478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0BEF-8649-4A78-B1E7-0C54BBF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050-C0CD-4CB2-8163-4EEC54F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38040" y="3427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F5A0-8CBE-4B79-9D71-E7A5238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4B3F-E97B-4E91-8ABC-69B0372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F20-FBAF-4246-954C-99B680BC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675F-0C3C-4244-A5D3-6C5C467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BB9-6EF2-44DC-8D1A-2C32E69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5447-A1CB-48A8-8B09-1C40944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E4B7-B9C6-42BA-9DE5-FA614A97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F67C-F61C-4E24-BD58-12906F12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45F-E74B-4444-BD9B-FBE81EFB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1A2-EA22-4497-B19E-41F89997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E50-22DA-413E-A8F6-D9F3270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38040" y="3427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283-6320-40D5-A66C-F1AFB328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B01-AA24-43E7-B1C7-9696980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B3E-D843-4723-8FD2-0C68BE5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9E0-4EF4-43CA-A6D3-67BE193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400" y="93600"/>
            <a:ext cx="9905760" cy="1677960"/>
            <a:chOff x="-14400" y="93600"/>
            <a:chExt cx="9905760" cy="1677960"/>
          </a:xfrm>
        </p:grpSpPr>
        <p:sp>
          <p:nvSpPr>
            <p:cNvPr id="1" name=""/>
            <p:cNvSpPr/>
            <p:nvPr/>
          </p:nvSpPr>
          <p:spPr>
            <a:xfrm>
              <a:off x="-720" y="1523880"/>
              <a:ext cx="98920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720" y="1733400"/>
              <a:ext cx="98920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4400" y="93600"/>
              <a:ext cx="1432080" cy="1571760"/>
              <a:chOff x="-14400" y="93600"/>
              <a:chExt cx="14320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4400" y="93600"/>
                <a:ext cx="14320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7560" y="307800"/>
                <a:ext cx="120024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9560" y="336600"/>
                <a:ext cx="84780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741240"/>
                <a:ext cx="2131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1E9E-6BEC-4365-9730-8ABDD17BEBE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4400" y="1681200"/>
            <a:ext cx="9905760" cy="1766880"/>
            <a:chOff x="-14400" y="1681200"/>
            <a:chExt cx="9905760" cy="1766880"/>
          </a:xfrm>
        </p:grpSpPr>
        <p:sp>
          <p:nvSpPr>
            <p:cNvPr id="50" name=""/>
            <p:cNvSpPr/>
            <p:nvPr/>
          </p:nvSpPr>
          <p:spPr>
            <a:xfrm>
              <a:off x="-720" y="3200400"/>
              <a:ext cx="98920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720" y="3409920"/>
              <a:ext cx="98920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4400" y="1681200"/>
              <a:ext cx="1432080" cy="1571760"/>
              <a:chOff x="-14400" y="1681200"/>
              <a:chExt cx="14320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4400" y="1681200"/>
                <a:ext cx="14320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7560" y="1895400"/>
                <a:ext cx="120024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9560" y="1924200"/>
                <a:ext cx="84780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5640" y="2328840"/>
                <a:ext cx="2131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190476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314000" y="62326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956040" y="62326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670880" y="62326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E598-B608-43B0-A72E-0EDA8C8F334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160" y="1413000"/>
            <a:ext cx="97059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ahoma"/>
              </a:rPr>
              <a:t>Pequeños Estudios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ahoma"/>
              </a:rPr>
              <a:t>Cómo mejorar la comunicación con el Clien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ddddd"/>
                </a:solidFill>
                <a:latin typeface="Tahoma"/>
              </a:rPr>
              <a:t>Organizado por la Comisión Problemática de los Pequeños y Medianos Estudios Profesionales del C.P.C.E.C.A.B.A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ddddd"/>
                </a:solidFill>
                <a:latin typeface="Tahoma"/>
              </a:rPr>
              <a:t>14 de Septiembre de 2006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765000"/>
            <a:ext cx="86392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00200" indent="-228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ddddd"/>
                </a:solidFill>
                <a:latin typeface="Times New Roman"/>
              </a:rPr>
              <a:t>Taller de trabajo con desarrollo práctico</a:t>
            </a:r>
            <a:r>
              <a:rPr b="0" i="1" lang="es-ES_tradnl" sz="4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1400" y="260280"/>
            <a:ext cx="8694720" cy="18446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dddddd"/>
                </a:solidFill>
                <a:latin typeface="Tahoma"/>
              </a:rPr>
              <a:t>Los 3 componentes de </a:t>
            </a:r>
            <a:br>
              <a:rPr sz="4000"/>
            </a:br>
            <a:r>
              <a:rPr b="0" lang="es-AR" sz="4000" spc="-1" strike="noStrike">
                <a:solidFill>
                  <a:srgbClr val="dddddd"/>
                </a:solidFill>
                <a:latin typeface="Tahoma"/>
              </a:rPr>
              <a:t>nuestra comunicación:</a:t>
            </a:r>
            <a:br>
              <a:rPr sz="4000"/>
            </a:b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9906120" cy="52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Las </a:t>
            </a:r>
            <a:r>
              <a:rPr b="0" i="1" lang="es-MX" sz="4400" spc="-1" strike="noStrike">
                <a:solidFill>
                  <a:srgbClr val="ff9933"/>
                </a:solidFill>
                <a:latin typeface="Times New Roman"/>
              </a:rPr>
              <a:t>palabras</a:t>
            </a: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 son el </a:t>
            </a:r>
            <a:r>
              <a:rPr b="0" lang="es-MX" sz="4400" spc="-1" strike="noStrike" u="sng">
                <a:solidFill>
                  <a:srgbClr val="dddddd"/>
                </a:solidFill>
                <a:uFillTx/>
                <a:latin typeface="Times New Roman"/>
              </a:rPr>
              <a:t>contenido</a:t>
            </a: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 del lenguaj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Las </a:t>
            </a:r>
            <a:r>
              <a:rPr b="0" i="1" lang="es-MX" sz="4400" spc="-1" strike="noStrike">
                <a:solidFill>
                  <a:srgbClr val="ff9933"/>
                </a:solidFill>
                <a:latin typeface="Times New Roman"/>
              </a:rPr>
              <a:t>posturas, gestos, expresión</a:t>
            </a: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 y el </a:t>
            </a:r>
            <a:r>
              <a:rPr b="0" i="1" lang="es-MX" sz="4400" spc="-1" strike="noStrike">
                <a:solidFill>
                  <a:srgbClr val="ff9933"/>
                </a:solidFill>
                <a:latin typeface="Times New Roman"/>
              </a:rPr>
              <a:t>tono de voz</a:t>
            </a: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 son el </a:t>
            </a:r>
            <a:r>
              <a:rPr b="0" lang="es-MX" sz="4400" spc="-1" strike="noStrike" u="sng">
                <a:solidFill>
                  <a:srgbClr val="dddddd"/>
                </a:solidFill>
                <a:uFillTx/>
                <a:latin typeface="Times New Roman"/>
              </a:rPr>
              <a:t>contexto</a:t>
            </a: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 que enmarcan el mensaje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ddddd"/>
                </a:solidFill>
                <a:latin typeface="Times New Roman"/>
              </a:rPr>
              <a:t>Juntos dan sentido a la </a:t>
            </a:r>
            <a:r>
              <a:rPr b="1" i="1" lang="es-MX" sz="4400" spc="-1" strike="noStrike">
                <a:solidFill>
                  <a:srgbClr val="ff9933"/>
                </a:solidFill>
                <a:latin typeface="Times New Roman"/>
              </a:rPr>
              <a:t>comunicación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60" y="1699920"/>
            <a:ext cx="99061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7200" spc="-1" strike="noStrike">
                <a:solidFill>
                  <a:srgbClr val="ff9933"/>
                </a:solidFill>
                <a:latin typeface="Times New Roman"/>
              </a:rPr>
              <a:t>El significado de la comunicación</a:t>
            </a:r>
            <a:r>
              <a:rPr b="0" i="1" lang="es-MX" sz="8000" spc="-1" strike="noStrike">
                <a:solidFill>
                  <a:srgbClr val="ff9933"/>
                </a:solidFill>
                <a:latin typeface="Times New Roman"/>
              </a:rPr>
              <a:t> es la respuesta que se obtiene</a:t>
            </a:r>
            <a:endParaRPr b="0" lang="en-US" sz="8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 u="sng">
                <a:solidFill>
                  <a:srgbClr val="00cccc"/>
                </a:solidFill>
                <a:uFillTx/>
                <a:latin typeface="Times New Roman"/>
              </a:rPr>
              <a:t>Sintonía</a:t>
            </a:r>
            <a:endParaRPr b="0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9061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Relación de confianza e influencia mutua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Base de toda comunicación eficaz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Comienza con: Reconocer al otro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Acompañar-acompasar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48520" y="5084640"/>
            <a:ext cx="18576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00cccc"/>
                </a:solidFill>
                <a:uFillTx/>
                <a:latin typeface="Times New Roman"/>
              </a:rPr>
              <a:t> </a:t>
            </a:r>
            <a:r>
              <a:rPr b="1" i="1" lang="es-ES_tradnl" sz="6600" spc="-1" strike="noStrike" u="sng">
                <a:solidFill>
                  <a:srgbClr val="00cccc"/>
                </a:solidFill>
                <a:uFillTx/>
                <a:latin typeface="Times New Roman"/>
              </a:rPr>
              <a:t>Sintonía - Rapport</a:t>
            </a:r>
            <a:endParaRPr b="0" lang="en-US" sz="6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1880" y="1773360"/>
            <a:ext cx="9713880" cy="50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Es la relación en la que existe armonía, acuerdo, confort o afinidad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Debe tener algo en común o crear una base común compartida, para realizar cualquier intercambio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Se construye IGUALANDO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Enseña a prestarle atención al otro: 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a reconocer su modo de ver el mundo</a:t>
            </a: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61240" y="4292640"/>
            <a:ext cx="18288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4160" y="259920"/>
            <a:ext cx="64515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 u="sng">
                <a:solidFill>
                  <a:srgbClr val="00cccc"/>
                </a:solidFill>
                <a:uFillTx/>
                <a:latin typeface="Times New Roman"/>
              </a:rPr>
              <a:t>Tipos de sintonía (1)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1000" y="1773000"/>
            <a:ext cx="92851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 u="sng">
                <a:solidFill>
                  <a:srgbClr val="dddddd"/>
                </a:solidFill>
                <a:uFillTx/>
                <a:latin typeface="Times New Roman"/>
              </a:rPr>
              <a:t>Corporal: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Contacto visual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Indumentaria - apariencia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Postura, lenguaje corporal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Respiración 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39800" y="259920"/>
            <a:ext cx="702792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6000" spc="-1" strike="noStrike" u="sng">
                <a:solidFill>
                  <a:srgbClr val="00cccc"/>
                </a:solidFill>
                <a:uFillTx/>
                <a:latin typeface="Times New Roman"/>
              </a:rPr>
              <a:t>Tipos de sintonía (2)</a:t>
            </a: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99061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 u="sng">
                <a:solidFill>
                  <a:srgbClr val="dddddd"/>
                </a:solidFill>
                <a:uFillTx/>
                <a:latin typeface="Times New Roman"/>
              </a:rPr>
              <a:t>Voz</a:t>
            </a:r>
            <a:r>
              <a:rPr b="0" i="1" lang="es-ES_tradnl" sz="5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dddddd"/>
                </a:solidFill>
                <a:uFillTx/>
                <a:latin typeface="Times New Roman"/>
              </a:rPr>
              <a:t>Ritmo</a:t>
            </a: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:  rápido, medio, lento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dddddd"/>
                </a:solidFill>
                <a:uFillTx/>
                <a:latin typeface="Times New Roman"/>
              </a:rPr>
              <a:t>Tono</a:t>
            </a: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:  agudo, llano, grav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dddddd"/>
                </a:solidFill>
                <a:uFillTx/>
                <a:latin typeface="Times New Roman"/>
              </a:rPr>
              <a:t>Volumen</a:t>
            </a: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:  fuerte, medio, débi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dddddd"/>
                </a:solidFill>
                <a:uFillTx/>
                <a:latin typeface="Times New Roman"/>
              </a:rPr>
              <a:t>Claridad</a:t>
            </a: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:  clara, llena, sonora, fuerte, dul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dddddd"/>
                </a:solidFill>
                <a:uFillTx/>
                <a:latin typeface="Times New Roman"/>
              </a:rPr>
              <a:t>Timbre</a:t>
            </a: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:  velado, débil, ronco, gangoso, nasa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84880" y="198900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4520" y="259920"/>
            <a:ext cx="68832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6000" spc="-1" strike="noStrike" u="sng">
                <a:solidFill>
                  <a:srgbClr val="00cccc"/>
                </a:solidFill>
                <a:uFillTx/>
                <a:latin typeface="Times New Roman"/>
              </a:rPr>
              <a:t>Tipos de sintonía (3)</a:t>
            </a: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640" y="1773360"/>
            <a:ext cx="88930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 u="sng">
                <a:solidFill>
                  <a:srgbClr val="dddddd"/>
                </a:solidFill>
                <a:uFillTx/>
                <a:latin typeface="Times New Roman"/>
              </a:rPr>
              <a:t>Lenguaje: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ddddd"/>
                </a:solidFill>
                <a:latin typeface="Times New Roman"/>
              </a:rPr>
              <a:t>Predicados: verbos, adverbios, adjetivos, sustantivo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30040" y="188640"/>
            <a:ext cx="877572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i="1" lang="es-ES_tradnl" sz="3600" spc="-1" strike="noStrike" u="sng">
                <a:solidFill>
                  <a:srgbClr val="dddddd"/>
                </a:solidFill>
                <a:uFillTx/>
                <a:latin typeface="Times New Roman"/>
              </a:rPr>
              <a:t>Igualación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Adoptar similar actitud corporal, de voz y de lenguaje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Unirse a alguien en su danza particular .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 u="sng">
                <a:solidFill>
                  <a:srgbClr val="dddddd"/>
                </a:solidFill>
                <a:uFillTx/>
                <a:latin typeface="Times New Roman"/>
              </a:rPr>
              <a:t>Igualación cruzad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Es una forma de igualación indirect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Ej.: si su interlocutor cruza las piernas, Ud. cruza los braz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 u="sng">
                <a:solidFill>
                  <a:srgbClr val="dddddd"/>
                </a:solidFill>
                <a:uFillTx/>
                <a:latin typeface="Times New Roman"/>
              </a:rPr>
              <a:t>Desiguala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Salir de la danza sin perder la sintoní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520" y="0"/>
            <a:ext cx="8463240" cy="13413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 u="sng">
                <a:solidFill>
                  <a:srgbClr val="00cccc"/>
                </a:solidFill>
                <a:uFillTx/>
                <a:latin typeface="Times New Roman"/>
              </a:rPr>
              <a:t>Conclusión:</a:t>
            </a:r>
            <a:endParaRPr b="0" lang="en-US" sz="6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9800" y="1928880"/>
            <a:ext cx="948996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dddddd"/>
                </a:solidFill>
                <a:latin typeface="Times New Roman"/>
              </a:rPr>
              <a:t>Igualar el lenguaje corporal no basta para establecer sintonía si se desigualan valores y creencias.</a:t>
            </a:r>
            <a:endParaRPr b="0" lang="en-US" sz="33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dddddd"/>
                </a:solidFill>
                <a:latin typeface="Times New Roman"/>
              </a:rPr>
              <a:t>Acompañar valores y creencias no significa estar de acuerdo con ellos.</a:t>
            </a:r>
            <a:endParaRPr b="0" lang="en-US" sz="33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dddddd"/>
                </a:solidFill>
                <a:latin typeface="Times New Roman"/>
              </a:rPr>
              <a:t>Sintonía es construir un puente hacia la otra persona para comprenderla mejor y establecer contacto.</a:t>
            </a:r>
            <a:endParaRPr b="0" lang="en-US" sz="33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dddddd"/>
                </a:solidFill>
                <a:latin typeface="Times New Roman"/>
              </a:rPr>
              <a:t>La habilidad para generar sintonía es indispensable para tratar con las personas.</a:t>
            </a:r>
            <a:endParaRPr b="0" lang="en-US" sz="33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8040" y="0"/>
            <a:ext cx="8420040" cy="16286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 u="sng">
                <a:solidFill>
                  <a:srgbClr val="00cccc"/>
                </a:solidFill>
                <a:uFillTx/>
                <a:latin typeface="Times New Roman"/>
              </a:rPr>
              <a:t>Sintonía con los clientes:</a:t>
            </a:r>
            <a:r>
              <a:rPr b="0" i="1" lang="es-ES_tradnl" sz="4800" spc="-1" strike="noStrike" u="sng">
                <a:solidFill>
                  <a:srgbClr val="00cccc"/>
                </a:solidFill>
                <a:uFillTx/>
                <a:latin typeface="Times New Roman"/>
              </a:rPr>
              <a:t> </a:t>
            </a:r>
            <a:br>
              <a:rPr sz="4800"/>
            </a:br>
            <a:r>
              <a:rPr b="0" lang="es-ES_tradnl" sz="3200" spc="-1" strike="noStrike">
                <a:solidFill>
                  <a:srgbClr val="00cccc"/>
                </a:solidFill>
                <a:latin typeface="Times New Roman"/>
              </a:rPr>
              <a:t>“La empresa enfocada al cliente” R. Whiteley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94960"/>
            <a:ext cx="94899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Cambió de empresa porque: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15% por otro producto más barato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30% porque el precio define la calidad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20% por escaso contacto y poca atención individualizad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ddddd"/>
                </a:solidFill>
                <a:latin typeface="Times New Roman"/>
              </a:rPr>
              <a:t>35% por atención recibida de escasa calidad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9800" y="620280"/>
            <a:ext cx="7021440" cy="7938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00cccc"/>
                </a:solidFill>
                <a:latin typeface="Times New Roman"/>
              </a:rPr>
              <a:t>La comunicación</a:t>
            </a:r>
            <a:r>
              <a:rPr b="0" i="1" lang="es-MX" sz="7200" spc="-1" strike="noStrike">
                <a:solidFill>
                  <a:srgbClr val="00cccc"/>
                </a:solidFill>
                <a:latin typeface="Times New Roma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1000" y="1844280"/>
            <a:ext cx="9555120" cy="27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dddddd"/>
                </a:solidFill>
                <a:latin typeface="Times New Roman"/>
              </a:rPr>
              <a:t>como factor de cohesión entre los distintos aspectos de la relación Profesional - Client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01880" y="442584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66320" cy="6969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3960" y="5334120"/>
            <a:ext cx="75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ecff"/>
                </a:solidFill>
                <a:latin typeface="Victorian LET"/>
                <a:ea typeface="Times New Roman"/>
              </a:rPr>
              <a:t>“</a:t>
            </a:r>
            <a:r>
              <a:rPr b="1" i="1" lang="es-ES_tradnl" sz="4000" spc="-1" strike="noStrike">
                <a:solidFill>
                  <a:srgbClr val="ccecff"/>
                </a:solidFill>
                <a:latin typeface="Victorian LET"/>
                <a:ea typeface="Times New Roman"/>
              </a:rPr>
              <a:t>Si no te gusta lo que recibes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60" y="5867280"/>
            <a:ext cx="92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Victorian LET"/>
                <a:ea typeface="Times New Roman"/>
              </a:rPr>
              <a:t>      </a:t>
            </a:r>
            <a:r>
              <a:rPr b="1" i="1" lang="es-ES_tradnl" sz="4000" spc="-1" strike="noStrike">
                <a:solidFill>
                  <a:srgbClr val="ccecff"/>
                </a:solidFill>
                <a:latin typeface="Victorian LET"/>
                <a:ea typeface="Times New Roman"/>
              </a:rPr>
              <a:t>presta atención a lo que emites...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14360" y="-54000"/>
            <a:ext cx="421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a vida es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omo un eco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40160" y="2133720"/>
            <a:ext cx="5688000" cy="2808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cccc"/>
                </a:solidFill>
                <a:latin typeface="Times New Roman"/>
              </a:rPr>
              <a:t>¡MUCHAS GRACIAS </a:t>
            </a:r>
            <a:br>
              <a:rPr sz="4400"/>
            </a:br>
            <a:r>
              <a:rPr b="0" i="1" lang="es-MX" sz="4400" spc="-1" strike="noStrike">
                <a:solidFill>
                  <a:srgbClr val="00cccc"/>
                </a:solidFill>
                <a:latin typeface="Times New Roman"/>
              </a:rPr>
              <a:t>POR SU ATENCIÓN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043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cccc"/>
                </a:solidFill>
                <a:latin typeface="Times New Roman"/>
              </a:rPr>
              <a:t>Distintos aspectos: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760" y="1700280"/>
            <a:ext cx="9045360" cy="465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716280"/>
            <a:ext cx="6553080" cy="1657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4960" y="1981080"/>
            <a:ext cx="6629400" cy="23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66680" indent="0"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6600" spc="-1" strike="noStrike">
              <a:solidFill>
                <a:srgbClr val="dddddd"/>
              </a:solidFill>
              <a:latin typeface="Times New Roman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80" y="-706320"/>
            <a:ext cx="5073480" cy="763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79960" y="-15840"/>
            <a:ext cx="4942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8040" y="3427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00cccc"/>
                </a:solidFill>
                <a:latin typeface="Times New Roman"/>
              </a:rPr>
              <a:t>LA COMUNICACIÓN ES: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60520" y="1980720"/>
            <a:ext cx="754560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4800" spc="-1" strike="noStrike">
                <a:solidFill>
                  <a:srgbClr val="dddddd"/>
                </a:solidFill>
                <a:latin typeface="Times New Roman"/>
              </a:rPr>
              <a:t>LA MÁS BÁSICA Y VITAL DE TODAS LAS NECESIDADES DESPUES DE LA SUPERVIVENCIA FISICA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2496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8040" y="-360"/>
            <a:ext cx="8667720" cy="141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cccc"/>
                </a:solidFill>
                <a:latin typeface="Times New Roman"/>
              </a:rPr>
              <a:t>COMUNICACIÓN INTERPERSONAL</a:t>
            </a:r>
            <a:br>
              <a:rPr sz="3600"/>
            </a:b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1880" y="1628640"/>
            <a:ext cx="971388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Cuando usted se comunica con una persona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Escucha (percibe) su respuest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Reacciona con sus propios pensamientos y sentimientos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Su conducta está generada por las respuestas internas a lo que vea y oig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Su interlocutor responde a su conducta de la misma form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97240" y="2060640"/>
            <a:ext cx="318924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712520" y="907920"/>
            <a:ext cx="6081840" cy="5473800"/>
            <a:chOff x="1712520" y="907920"/>
            <a:chExt cx="6081840" cy="5473800"/>
          </a:xfrm>
        </p:grpSpPr>
        <p:sp>
          <p:nvSpPr>
            <p:cNvPr id="122" name=""/>
            <p:cNvSpPr/>
            <p:nvPr/>
          </p:nvSpPr>
          <p:spPr>
            <a:xfrm>
              <a:off x="1757160" y="907920"/>
              <a:ext cx="5977080" cy="4465800"/>
            </a:xfrm>
            <a:prstGeom prst="blockArc">
              <a:avLst>
                <a:gd name="adj1" fmla="val 10695030"/>
                <a:gd name="adj2" fmla="val 104970"/>
                <a:gd name="adj3" fmla="val 1630"/>
              </a:avLst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1756800" y="1915920"/>
              <a:ext cx="5977080" cy="4465440"/>
            </a:xfrm>
            <a:prstGeom prst="blockArc">
              <a:avLst>
                <a:gd name="adj1" fmla="val 10595132"/>
                <a:gd name="adj2" fmla="val 204868"/>
                <a:gd name="adj3" fmla="val 1963"/>
              </a:avLst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78720" y="3203640"/>
              <a:ext cx="215640" cy="2872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1712520" y="3787920"/>
              <a:ext cx="215640" cy="2872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857240" y="333360"/>
            <a:ext cx="424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dddddd"/>
                </a:solidFill>
                <a:latin typeface="Times New Roman"/>
              </a:rPr>
              <a:t>CONDUCTA EXTER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6281640"/>
            <a:ext cx="42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dddddd"/>
                </a:solidFill>
                <a:latin typeface="Times New Roman"/>
              </a:rPr>
              <a:t>CONDUCTA EXTER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239840" y="342900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00200" indent="-2286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dddddd"/>
                </a:solidFill>
                <a:latin typeface="Times New Roman"/>
              </a:rPr>
              <a:t>RESPUESTA INTER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42120" y="3573360"/>
            <a:ext cx="446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00200" indent="-2286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dddddd"/>
                </a:solidFill>
                <a:latin typeface="Times New Roman"/>
              </a:rPr>
              <a:t>RESPUESTA INTERN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0040" y="342720"/>
            <a:ext cx="877572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00cccc"/>
                </a:solidFill>
                <a:latin typeface="Times New Roman"/>
              </a:rPr>
              <a:t>LA ESCUCHA EN LA COMUNICACION</a:t>
            </a:r>
            <a:endParaRPr b="0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9906120" cy="50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CAPTA LAS EMOCIONES QUE REFLEJAN LA VOZ, EL ROSTRO  Y EL CUERPO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 u="sng">
                <a:solidFill>
                  <a:srgbClr val="ff9933"/>
                </a:solidFill>
                <a:uFillTx/>
                <a:latin typeface="Times New Roman"/>
              </a:rPr>
              <a:t>ESCUCHAR= ESTAR ALERTA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OBSERVANDO, ESCUCHANDO CON LA MENTE VIRGEN, SIN FÓRMULAS PREESTABLECIDAS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1314360"/>
          <a:ext cx="990612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4360"/>
                    <a:ext cx="99061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819000" y="620640"/>
            <a:ext cx="9087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dddddd"/>
                </a:solidFill>
                <a:latin typeface="Times New Roman"/>
              </a:rPr>
              <a:t>Los 3 componentes de nuestra comunicación:</a:t>
            </a:r>
            <a:endParaRPr b="0" lang="en-US" sz="33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484280"/>
            <a:ext cx="223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7%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0:20:39Z</dcterms:created>
  <dc:creator>Nelly Soria</dc:creator>
  <dc:description/>
  <dc:language>en-US</dc:language>
  <cp:lastModifiedBy>C.P.C.E.C.A.B.A.</cp:lastModifiedBy>
  <dcterms:modified xsi:type="dcterms:W3CDTF">2006-09-26T15:35:31Z</dcterms:modified>
  <cp:revision>3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